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898-4736-4F32-94CB-0F93F074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E27-F2C9-4FF7-BDB2-9141C3D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706-505D-4F9B-B5D8-EB7EA205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8A3-AB8E-466D-B25B-1553C915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64F-66D7-45B3-8906-FD00CB67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4AB-0146-4B2C-8B1C-985203BD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BDB-EE3D-4538-A2BF-AE4D768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C18-C395-47D6-9630-D29727C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4C9-EA09-4531-B505-AE3EF1F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FBE-C873-4147-87E0-527BD07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6AA-8F54-4D10-B90D-E9B4250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649-74C4-42AA-9AA1-7F45842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54A5-3CE1-4341-89CD-82E1A5E32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600200"/>
            <a:ext cx="627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ias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1500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30556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11480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00:48:16Z</dcterms:modified>
  <cp:revision>216</cp:revision>
  <dc:subject/>
  <dc:title>Slide 1</dc:title>
</cp:coreProperties>
</file>